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6.jpeg" ContentType="image/jpe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4.wmf" ContentType="image/x-wmf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52013"/>
  <p:custShowLst>
    <p:custShow name="Customer Executives/Mktg" id="0">
      <p:sldLst>
        <p:sld r:id="rId4"/>
        <p:sld r:id="rId14"/>
      </p:sldLst>
    </p:custShow>
    <p:custShow name="Customer Executive/Mktg Short" id="1">
      <p:sldLst>
        <p:sld r:id="rId4"/>
        <p:sld r:id="rId14"/>
      </p:sldLst>
    </p:custShow>
    <p:custShow name="Customer Technical" id="2">
      <p:sldLst>
        <p:sld r:id="rId4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F483-C7C5-4920-846B-1E94E3A31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3244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13012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600" y="683244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6095880"/>
            <a:ext cx="6629400" cy="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1768320" cy="132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a-tele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antc.de/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2.wmf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elis Networks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ghperformance &amp; Highspeed Datacom über bestehende Kupferinfrastruktur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FM-Bonding-Advanta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6172200"/>
            <a:ext cx="7010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A Telenet GmbH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CH-8201 Schaffhausen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Switzerlan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el: +41 52 647 4141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Fax: +41 52 647 41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zigartigkeit von Actelis Produk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1523880"/>
            <a:ext cx="845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ctelis EFM-Bonding-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utomatische Anpassung der Übertragungs-geschwindigkeit in der vorhandenen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Cutline-Protection (Schutz gegen Unterbruch &gt;1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Hochverfügbarkeit über Kupferlei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Dynamic-Noise &amp;Distance-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Konfigurierbarkeit (Remote, Integral-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Betrieb und Support (geringster Aufw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Unterstützt Zentralen (CO) und Modems (C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INE Konfigurations-Software für ALLE 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rfüllt MIL und NEBS (Network Building Systems) Level 3: Operating -40°C bis +65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754360" y="1609560"/>
            <a:ext cx="5429160" cy="360"/>
            <a:chOff x="2754360" y="1609560"/>
            <a:chExt cx="5429160" cy="360"/>
          </a:xfrm>
        </p:grpSpPr>
        <p:sp>
          <p:nvSpPr>
            <p:cNvPr id="465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85440" y="2895120"/>
            <a:ext cx="75438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anke für Ihr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Markus Mart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UA Telenet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8201 Schaff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el: +41 52 647 41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Fax: +41 52 647 4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ua-tel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352680" y="1143000"/>
            <a:ext cx="2225880" cy="166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2754360" y="1609560"/>
            <a:ext cx="5429160" cy="360"/>
            <a:chOff x="2754360" y="1609560"/>
            <a:chExt cx="5429160" cy="360"/>
          </a:xfrm>
        </p:grpSpPr>
        <p:sp>
          <p:nvSpPr>
            <p:cNvPr id="470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7543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Anhänge Technisch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elis’ Carrier Ethernet Produkt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509616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O - Acces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es – ML2300, ML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oint To Multi Point CO and Super CO nod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gregates up to 128 lines on a single switc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dular Mini- &amp; Maxi-Rack is stackable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– ML42 (2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outed Carrier Ethernet &amp; CLI-Interfa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nly in combination with EFM CO, ML2300 &amp; ML13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tandard QoS and prioritiz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2x Family (1-8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witched Carrier Ethernet &amp; SFP access (for ML624/628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tandard QoS and prioritiz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4x Family (4-8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witched Carrier Ethernet &amp; SFP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ended QoS features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nd prioritization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5x Family (4-8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witched Carrier Ethernet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ntegrated TCP/IP, E1/E3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&amp; SFP Interfac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ended QoS features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nd prioritization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8x Family (4+4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witched Carrier Ethernet &amp; SFP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dd &amp; Drop Features for Multiline applicati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10800000">
            <a:off x="5638320" y="1303200"/>
            <a:ext cx="3451320" cy="48578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dddddd"/>
              </a:gs>
            </a:gsLst>
            <a:lin ang="162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owered by Actelis EFM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32600" y="4343400"/>
            <a:ext cx="2865240" cy="954000"/>
          </a:xfrm>
          <a:prstGeom prst="rect">
            <a:avLst/>
          </a:prstGeom>
          <a:gradFill rotWithShape="0">
            <a:gsLst>
              <a:gs pos="0">
                <a:srgbClr val="ffd685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bd">
                <a:alpha val="1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32600" y="1379520"/>
            <a:ext cx="2865240" cy="144792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ff6600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74360" y="23623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rcRect l="4679" t="35470" r="5771" b="18418"/>
          <a:stretch/>
        </p:blipFill>
        <p:spPr>
          <a:xfrm>
            <a:off x="7010280" y="2400480"/>
            <a:ext cx="1930680" cy="3711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150600" y="17463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2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054920" y="1454040"/>
            <a:ext cx="1900080" cy="7938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6339240" y="48909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132600" y="5413320"/>
            <a:ext cx="2865240" cy="681120"/>
            <a:chOff x="6132600" y="5413320"/>
            <a:chExt cx="2865240" cy="681120"/>
          </a:xfrm>
        </p:grpSpPr>
        <p:sp>
          <p:nvSpPr>
            <p:cNvPr id="484" name=""/>
            <p:cNvSpPr/>
            <p:nvPr/>
          </p:nvSpPr>
          <p:spPr>
            <a:xfrm>
              <a:off x="6132600" y="5413320"/>
              <a:ext cx="2865240" cy="6811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32600" y="5510160"/>
              <a:ext cx="1314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aASSIST View &amp; 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8210520" y="5495760"/>
              <a:ext cx="554040" cy="457200"/>
            </a:xfrm>
            <a:prstGeom prst="rect">
              <a:avLst/>
            </a:prstGeom>
            <a:ln w="57240">
              <a:solidFill>
                <a:srgbClr val="333399"/>
              </a:solidFill>
              <a:miter/>
            </a:ln>
          </p:spPr>
        </p:pic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7500960" y="5510160"/>
              <a:ext cx="492120" cy="442800"/>
            </a:xfrm>
            <a:prstGeom prst="rect">
              <a:avLst/>
            </a:prstGeom>
            <a:ln w="57240">
              <a:solidFill>
                <a:srgbClr val="333399"/>
              </a:solidFill>
              <a:miter/>
            </a:ln>
          </p:spPr>
        </p:pic>
      </p:grpSp>
      <p:sp>
        <p:nvSpPr>
          <p:cNvPr id="488" name=""/>
          <p:cNvSpPr/>
          <p:nvPr/>
        </p:nvSpPr>
        <p:spPr>
          <a:xfrm>
            <a:off x="6132600" y="2921040"/>
            <a:ext cx="28652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bc5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7535880" y="3849840"/>
            <a:ext cx="1023840" cy="2458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321960" y="37432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7543800" y="3454560"/>
            <a:ext cx="1023840" cy="2444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26640" y="337824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34040" y="2930400"/>
            <a:ext cx="2860560" cy="4701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ffe9bd">
                <a:alpha val="1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26640" y="44704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7"/>
          <a:stretch/>
        </p:blipFill>
        <p:spPr>
          <a:xfrm>
            <a:off x="7518240" y="4940280"/>
            <a:ext cx="1054440" cy="203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7518240" y="4521240"/>
            <a:ext cx="1024200" cy="245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7467480" y="2940120"/>
            <a:ext cx="1038240" cy="452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322320" y="2997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 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etro Ethernet Ausrüst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79360" y="1290600"/>
            <a:ext cx="4214880" cy="489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ilt-in Ethernet Sw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1.4 Gbps non-blocking switching fabric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x10/100 Ethernet ports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Integrated 100/1000 optical interface (SFP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pper Interfa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802.3ah EFM 10BaseTL compliant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1, 2, 4 or 8 copper pairs per unit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Symmetric Traffic up to 120 Mbps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guration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oint-to-Multipoint (ML1300/130 at CO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oint-to-Point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dd-Drop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ilt-in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M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or better 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vironmentally hardened, -40 to +65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wer: AC or D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ck, wall or desk moun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906440" y="2754360"/>
            <a:ext cx="3589560" cy="1260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672240" y="2849400"/>
            <a:ext cx="116352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99200" y="2852640"/>
            <a:ext cx="3306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lf a 19” shelf  (213mm/8.3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599000" y="1795320"/>
            <a:ext cx="7920" cy="60192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84880" y="2495520"/>
            <a:ext cx="25560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227480" y="1922400"/>
            <a:ext cx="4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61000" y="3173400"/>
            <a:ext cx="4167000" cy="301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thernet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1 wire speed Dynamic bri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1q VLAN tagging – 256 V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inQ VLAN St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1p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2 / L3 (ToS/DiffServ) clas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ority Re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 traffic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STP/S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F14 compli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te limiting – after clas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3ah Link OAM, Dying G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915080" y="1550880"/>
            <a:ext cx="3757320" cy="86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operability mit anderen Herstell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4670280" cy="354492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69883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elis products are MEF9,10 &amp; 14 certi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ensuring a high service quality and traffic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ility demonstration MEF World Forum - Berlin 2005 &gt;&gt; se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antc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7467480" y="1295280"/>
            <a:ext cx="1251000" cy="15782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96160" y="3192480"/>
            <a:ext cx="2073240" cy="26726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op.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elis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il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a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 Data Co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n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ent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x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scher Algorith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523880"/>
            <a:ext cx="8153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ctelis Produkte Vorte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Telco Spectral Compliant: 5.7 und 8.5 Mbps/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Proprietären Leitungen: 10 Mbps &amp; 15.3 Mbps/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s können bis 8 Pairs parallel geschalt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Symmetrische Bandbreite von bis zu 40/120 Mbps pro Link mit einer Hochverfügbarkeit bis 99.9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ntwortzeiten im Bereich von 2-3 Millisekunden, vergleichbar mit einer quasi optischen Übertra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stungsfähigkeit der Produkte in Kupfer-Netz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ramm 5.7 Mbps/Pair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479600"/>
            <a:ext cx="7916760" cy="442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2120" y="58672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ctual performance may vary according to copper plant characteristics and nois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lis Technologi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EFM Kupfer-Bonding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7320" y="1979640"/>
            <a:ext cx="8889840" cy="3625920"/>
          </a:xfrm>
          <a:prstGeom prst="cube">
            <a:avLst>
              <a:gd name="adj" fmla="val 2870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69120" y="3541680"/>
            <a:ext cx="159876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exible 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ocation for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8080" y="2286000"/>
            <a:ext cx="4038480" cy="329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9720" y="4800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75120"/>
            <a:ext cx="1219320" cy="519120"/>
          </a:xfrm>
          <a:prstGeom prst="cube">
            <a:avLst>
              <a:gd name="adj" fmla="val 11486"/>
            </a:avLst>
          </a:prstGeom>
          <a:gradFill rotWithShape="0">
            <a:gsLst>
              <a:gs pos="0">
                <a:srgbClr val="009999"/>
              </a:gs>
              <a:gs pos="50000">
                <a:srgbClr val="dbf0f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.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7880" y="5413320"/>
            <a:ext cx="247680" cy="347760"/>
          </a:xfrm>
          <a:prstGeom prst="upDownArrow">
            <a:avLst>
              <a:gd name="adj1" fmla="val 50000"/>
              <a:gd name="adj2" fmla="val 27951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4960" y="5410080"/>
            <a:ext cx="247680" cy="347760"/>
          </a:xfrm>
          <a:prstGeom prst="upDownArrow">
            <a:avLst>
              <a:gd name="adj1" fmla="val 50000"/>
              <a:gd name="adj2" fmla="val 27951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280" y="5748480"/>
            <a:ext cx="3942000" cy="347040"/>
            <a:chOff x="152280" y="5748480"/>
            <a:chExt cx="3942000" cy="34704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1925" t="58948" r="75398" b="32736"/>
            <a:stretch/>
          </p:blipFill>
          <p:spPr>
            <a:xfrm>
              <a:off x="152280" y="5802480"/>
              <a:ext cx="3942000" cy="24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flipH="1" rot="10800000">
              <a:off x="335880" y="5776560"/>
              <a:ext cx="1629360" cy="2980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640" y="5772960"/>
              <a:ext cx="1479240" cy="2980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320" y="5755320"/>
              <a:ext cx="3479400" cy="340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88160" y="5755320"/>
              <a:ext cx="1725840" cy="329400"/>
            </a:xfrm>
            <a:custGeom>
              <a:avLst/>
              <a:gdLst/>
              <a:ahLst/>
              <a:rect l="l" t="t" r="r" b="b"/>
              <a:pathLst>
                <a:path w="1563" h="289">
                  <a:moveTo>
                    <a:pt x="122" y="88"/>
                  </a:moveTo>
                  <a:cubicBezTo>
                    <a:pt x="188" y="61"/>
                    <a:pt x="306" y="20"/>
                    <a:pt x="401" y="10"/>
                  </a:cubicBezTo>
                  <a:cubicBezTo>
                    <a:pt x="496" y="0"/>
                    <a:pt x="591" y="24"/>
                    <a:pt x="692" y="25"/>
                  </a:cubicBezTo>
                  <a:cubicBezTo>
                    <a:pt x="793" y="26"/>
                    <a:pt x="882" y="9"/>
                    <a:pt x="1010" y="19"/>
                  </a:cubicBezTo>
                  <a:cubicBezTo>
                    <a:pt x="1138" y="29"/>
                    <a:pt x="1369" y="65"/>
                    <a:pt x="1460" y="85"/>
                  </a:cubicBezTo>
                  <a:cubicBezTo>
                    <a:pt x="1551" y="105"/>
                    <a:pt x="1549" y="118"/>
                    <a:pt x="1556" y="139"/>
                  </a:cubicBezTo>
                  <a:cubicBezTo>
                    <a:pt x="1563" y="160"/>
                    <a:pt x="1543" y="192"/>
                    <a:pt x="1499" y="211"/>
                  </a:cubicBezTo>
                  <a:cubicBezTo>
                    <a:pt x="1455" y="230"/>
                    <a:pt x="1399" y="245"/>
                    <a:pt x="1289" y="256"/>
                  </a:cubicBezTo>
                  <a:cubicBezTo>
                    <a:pt x="1179" y="267"/>
                    <a:pt x="974" y="273"/>
                    <a:pt x="839" y="277"/>
                  </a:cubicBezTo>
                  <a:cubicBezTo>
                    <a:pt x="704" y="281"/>
                    <a:pt x="567" y="289"/>
                    <a:pt x="476" y="283"/>
                  </a:cubicBezTo>
                  <a:cubicBezTo>
                    <a:pt x="385" y="277"/>
                    <a:pt x="354" y="248"/>
                    <a:pt x="290" y="238"/>
                  </a:cubicBezTo>
                  <a:cubicBezTo>
                    <a:pt x="226" y="228"/>
                    <a:pt x="136" y="234"/>
                    <a:pt x="89" y="223"/>
                  </a:cubicBezTo>
                  <a:cubicBezTo>
                    <a:pt x="42" y="212"/>
                    <a:pt x="0" y="194"/>
                    <a:pt x="5" y="172"/>
                  </a:cubicBezTo>
                  <a:cubicBezTo>
                    <a:pt x="10" y="150"/>
                    <a:pt x="56" y="115"/>
                    <a:pt x="122" y="88"/>
                  </a:cubicBez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rcRect l="1925" t="58948" r="53150" b="32736"/>
            <a:stretch/>
          </p:blipFill>
          <p:spPr>
            <a:xfrm>
              <a:off x="1591560" y="5823360"/>
              <a:ext cx="13201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925" t="58948" r="53150" b="32736"/>
            <a:stretch/>
          </p:blipFill>
          <p:spPr>
            <a:xfrm>
              <a:off x="1467720" y="5880960"/>
              <a:ext cx="1621800" cy="3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rcRect l="1925" t="58948" r="53150" b="32736"/>
            <a:stretch/>
          </p:blipFill>
          <p:spPr>
            <a:xfrm>
              <a:off x="1407960" y="5933520"/>
              <a:ext cx="1681200" cy="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rcRect l="1925" t="58948" r="53150" b="32736"/>
            <a:stretch/>
          </p:blipFill>
          <p:spPr>
            <a:xfrm>
              <a:off x="1636200" y="5989320"/>
              <a:ext cx="129240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86720" y="5748480"/>
              <a:ext cx="1727280" cy="329760"/>
            </a:xfrm>
            <a:custGeom>
              <a:avLst/>
              <a:gdLst/>
              <a:ahLst/>
              <a:rect l="l" t="t" r="r" b="b"/>
              <a:pathLst>
                <a:path w="1563" h="289">
                  <a:moveTo>
                    <a:pt x="122" y="88"/>
                  </a:moveTo>
                  <a:cubicBezTo>
                    <a:pt x="188" y="61"/>
                    <a:pt x="306" y="20"/>
                    <a:pt x="401" y="10"/>
                  </a:cubicBezTo>
                  <a:cubicBezTo>
                    <a:pt x="496" y="0"/>
                    <a:pt x="591" y="22"/>
                    <a:pt x="692" y="25"/>
                  </a:cubicBezTo>
                  <a:cubicBezTo>
                    <a:pt x="793" y="28"/>
                    <a:pt x="879" y="15"/>
                    <a:pt x="1007" y="25"/>
                  </a:cubicBezTo>
                  <a:cubicBezTo>
                    <a:pt x="1135" y="35"/>
                    <a:pt x="1369" y="66"/>
                    <a:pt x="1460" y="85"/>
                  </a:cubicBezTo>
                  <a:cubicBezTo>
                    <a:pt x="1551" y="104"/>
                    <a:pt x="1549" y="118"/>
                    <a:pt x="1556" y="139"/>
                  </a:cubicBezTo>
                  <a:cubicBezTo>
                    <a:pt x="1563" y="160"/>
                    <a:pt x="1543" y="192"/>
                    <a:pt x="1499" y="211"/>
                  </a:cubicBezTo>
                  <a:cubicBezTo>
                    <a:pt x="1455" y="230"/>
                    <a:pt x="1399" y="245"/>
                    <a:pt x="1289" y="256"/>
                  </a:cubicBezTo>
                  <a:cubicBezTo>
                    <a:pt x="1179" y="267"/>
                    <a:pt x="974" y="273"/>
                    <a:pt x="839" y="277"/>
                  </a:cubicBezTo>
                  <a:cubicBezTo>
                    <a:pt x="704" y="281"/>
                    <a:pt x="567" y="289"/>
                    <a:pt x="476" y="283"/>
                  </a:cubicBezTo>
                  <a:cubicBezTo>
                    <a:pt x="385" y="277"/>
                    <a:pt x="354" y="248"/>
                    <a:pt x="290" y="238"/>
                  </a:cubicBezTo>
                  <a:cubicBezTo>
                    <a:pt x="226" y="228"/>
                    <a:pt x="136" y="234"/>
                    <a:pt x="89" y="223"/>
                  </a:cubicBezTo>
                  <a:cubicBezTo>
                    <a:pt x="42" y="212"/>
                    <a:pt x="0" y="194"/>
                    <a:pt x="5" y="172"/>
                  </a:cubicBezTo>
                  <a:cubicBezTo>
                    <a:pt x="10" y="150"/>
                    <a:pt x="56" y="115"/>
                    <a:pt x="122" y="88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000080" y="4413240"/>
            <a:ext cx="219240" cy="463680"/>
          </a:xfrm>
          <a:prstGeom prst="upDownArrow">
            <a:avLst>
              <a:gd name="adj1" fmla="val 50000"/>
              <a:gd name="adj2" fmla="val 42103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4960" y="4419720"/>
            <a:ext cx="235080" cy="463320"/>
          </a:xfrm>
          <a:prstGeom prst="upDownArrow">
            <a:avLst>
              <a:gd name="adj1" fmla="val 50000"/>
              <a:gd name="adj2" fmla="val 39236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7760" y="4876920"/>
            <a:ext cx="1219320" cy="519120"/>
          </a:xfrm>
          <a:prstGeom prst="cube">
            <a:avLst>
              <a:gd name="adj" fmla="val 11486"/>
            </a:avLst>
          </a:prstGeom>
          <a:gradFill rotWithShape="0">
            <a:gsLst>
              <a:gs pos="0">
                <a:srgbClr val="009999"/>
              </a:gs>
              <a:gs pos="50000">
                <a:srgbClr val="dbf0f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93200"/>
            <a:ext cx="3326040" cy="246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0080" y="4156200"/>
            <a:ext cx="277200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daptive Cross Tal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nagement (DS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69120" y="4762440"/>
            <a:ext cx="158436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utoma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ine Qualif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40080" y="2790720"/>
            <a:ext cx="1905120" cy="4590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timized Dynamic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ame Fragmen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69120" y="4151160"/>
            <a:ext cx="1579680" cy="49716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ynamic Li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Quality Monito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11800" y="2765520"/>
            <a:ext cx="159876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ut 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tection (CL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8280" y="1801800"/>
            <a:ext cx="336600" cy="712800"/>
          </a:xfrm>
          <a:prstGeom prst="upDownArrow">
            <a:avLst>
              <a:gd name="adj1" fmla="val 50000"/>
              <a:gd name="adj2" fmla="val 42157"/>
            </a:avLst>
          </a:prstGeom>
          <a:gradFill rotWithShape="0">
            <a:gsLst>
              <a:gs pos="0">
                <a:srgbClr val="003399"/>
              </a:gs>
              <a:gs pos="50000">
                <a:srgbClr val="a8b9db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84240" y="3625920"/>
            <a:ext cx="247680" cy="412560"/>
          </a:xfrm>
          <a:prstGeom prst="upDownArrow">
            <a:avLst>
              <a:gd name="adj1" fmla="val 50000"/>
              <a:gd name="adj2" fmla="val 33159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2514600"/>
            <a:ext cx="1871640" cy="1093680"/>
          </a:xfrm>
          <a:prstGeom prst="cube">
            <a:avLst>
              <a:gd name="adj" fmla="val 4847"/>
            </a:avLst>
          </a:prstGeom>
          <a:gradFill rotWithShape="0">
            <a:gsLst>
              <a:gs pos="0">
                <a:srgbClr val="009999"/>
              </a:gs>
              <a:gs pos="50000">
                <a:srgbClr val="a8dbdb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FM (Etherne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3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TU-T G.998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52388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thernet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rot="16200000">
            <a:off x="2151000" y="-266400"/>
            <a:ext cx="152640" cy="3733920"/>
          </a:xfrm>
          <a:custGeom>
            <a:avLst/>
            <a:gdLst>
              <a:gd name="textAreaLeft" fmla="*/ 45000 w 152640"/>
              <a:gd name="textAreaRight" fmla="*/ 153360 w 152640"/>
              <a:gd name="textAreaTop" fmla="*/ 155520 h 3733920"/>
              <a:gd name="textAreaBottom" fmla="*/ 35784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1430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rot="16200000">
            <a:off x="6455160" y="-533160"/>
            <a:ext cx="228600" cy="4343400"/>
          </a:xfrm>
          <a:custGeom>
            <a:avLst/>
            <a:gdLst>
              <a:gd name="textAreaLeft" fmla="*/ 66600 w 228600"/>
              <a:gd name="textAreaRight" fmla="*/ 228600 w 228600"/>
              <a:gd name="textAreaTop" fmla="*/ 180720 h 4343400"/>
              <a:gd name="textAreaBottom" fmla="*/ 416268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1143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telis Value-Adde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40080" y="4780080"/>
            <a:ext cx="275760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daptive Cross Tal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ncel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1752480"/>
            <a:ext cx="1523880" cy="762120"/>
          </a:xfrm>
          <a:prstGeom prst="wedgeRoundRectCallout">
            <a:avLst>
              <a:gd name="adj1" fmla="val -17185"/>
              <a:gd name="adj2" fmla="val 47916"/>
              <a:gd name="adj3" fmla="val 16667"/>
            </a:avLst>
          </a:prstGeom>
          <a:solidFill>
            <a:srgbClr val="e5e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imize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99040" y="1752480"/>
            <a:ext cx="1524240" cy="762120"/>
          </a:xfrm>
          <a:prstGeom prst="wedgeRoundRectCallout">
            <a:avLst>
              <a:gd name="adj1" fmla="val -2185"/>
              <a:gd name="adj2" fmla="val 37916"/>
              <a:gd name="adj3" fmla="val 16667"/>
            </a:avLst>
          </a:prstGeom>
          <a:solidFill>
            <a:srgbClr val="e5e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ssion Quality &amp; Resil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5560" y="1752480"/>
            <a:ext cx="1295280" cy="762120"/>
          </a:xfrm>
          <a:prstGeom prst="wedgeRoundRectCallout">
            <a:avLst>
              <a:gd name="adj1" fmla="val -46689"/>
              <a:gd name="adj2" fmla="val 37916"/>
              <a:gd name="adj3" fmla="val 16667"/>
            </a:avLst>
          </a:prstGeom>
          <a:solidFill>
            <a:srgbClr val="e5e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se of 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990720"/>
            <a:ext cx="4952880" cy="60948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ernet Demand + Fiber Shortage =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1040" y="547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47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92440" y="5479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080" y="54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30240" y="54799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70120" y="1930320"/>
            <a:ext cx="0" cy="343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5840" y="1930320"/>
            <a:ext cx="0" cy="343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1280" y="1930320"/>
            <a:ext cx="0" cy="343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98640" y="5235480"/>
            <a:ext cx="511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1752480"/>
            <a:ext cx="0" cy="3495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1000" y="496872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mmetr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d (Mb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2880" y="44607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9400" y="273672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48840" y="35701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29400" y="208296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262400" y="2165400"/>
            <a:ext cx="3168720" cy="730080"/>
            <a:chOff x="4262400" y="2165400"/>
            <a:chExt cx="3168720" cy="730080"/>
          </a:xfrm>
        </p:grpSpPr>
        <p:sp>
          <p:nvSpPr>
            <p:cNvPr id="152" name=""/>
            <p:cNvSpPr/>
            <p:nvPr/>
          </p:nvSpPr>
          <p:spPr>
            <a:xfrm>
              <a:off x="4262400" y="2165400"/>
              <a:ext cx="3168720" cy="7300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2000" y="2319480"/>
              <a:ext cx="1517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39320" y="14479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5120" y="2311560"/>
            <a:ext cx="3049200" cy="2184840"/>
            <a:chOff x="1905120" y="2311560"/>
            <a:chExt cx="3049200" cy="2184840"/>
          </a:xfrm>
        </p:grpSpPr>
        <p:sp>
          <p:nvSpPr>
            <p:cNvPr id="156" name=""/>
            <p:cNvSpPr/>
            <p:nvPr/>
          </p:nvSpPr>
          <p:spPr>
            <a:xfrm>
              <a:off x="1905120" y="2311560"/>
              <a:ext cx="3049200" cy="218484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49760" y="2879280"/>
              <a:ext cx="2974320" cy="1001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Actel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Carrier Ethernet over C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EFM</a:t>
              </a: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lu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s Solu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87040" y="4414680"/>
            <a:ext cx="685080" cy="547920"/>
            <a:chOff x="1787040" y="4414680"/>
            <a:chExt cx="685080" cy="547920"/>
          </a:xfrm>
        </p:grpSpPr>
        <p:sp>
          <p:nvSpPr>
            <p:cNvPr id="159" name=""/>
            <p:cNvSpPr/>
            <p:nvPr/>
          </p:nvSpPr>
          <p:spPr>
            <a:xfrm>
              <a:off x="1901520" y="4414680"/>
              <a:ext cx="484200" cy="547920"/>
            </a:xfrm>
            <a:prstGeom prst="rect">
              <a:avLst/>
            </a:prstGeom>
            <a:gradFill rotWithShape="0">
              <a:gsLst>
                <a:gs pos="0">
                  <a:srgbClr val="084081"/>
                </a:gs>
                <a:gs pos="100000">
                  <a:srgbClr val="ffe6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87040" y="4562280"/>
              <a:ext cx="6850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DS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fische Abdecku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erne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76520" y="1219320"/>
            <a:ext cx="7162560" cy="4876560"/>
            <a:chOff x="1676520" y="1219320"/>
            <a:chExt cx="7162560" cy="4876560"/>
          </a:xfrm>
        </p:grpSpPr>
        <p:graphicFrame>
          <p:nvGraphicFramePr>
            <p:cNvPr id="163" name=""/>
            <p:cNvGraphicFramePr/>
            <p:nvPr/>
          </p:nvGraphicFramePr>
          <p:xfrm>
            <a:off x="1676520" y="1219320"/>
            <a:ext cx="5668920" cy="487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219320"/>
                      <a:ext cx="5668920" cy="48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5" name=""/>
            <p:cNvGrpSpPr/>
            <p:nvPr/>
          </p:nvGrpSpPr>
          <p:grpSpPr>
            <a:xfrm>
              <a:off x="1798560" y="1288800"/>
              <a:ext cx="7040520" cy="4682160"/>
              <a:chOff x="1798560" y="1288800"/>
              <a:chExt cx="7040520" cy="46821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1798560" y="1288800"/>
                <a:ext cx="7040520" cy="4682160"/>
                <a:chOff x="1798560" y="1288800"/>
                <a:chExt cx="7040520" cy="46821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610480" y="2192400"/>
                  <a:ext cx="228600" cy="1413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238880" y="2124360"/>
                  <a:ext cx="1371600" cy="1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798560" y="1288800"/>
                  <a:ext cx="5257800" cy="4682160"/>
                </a:xfrm>
                <a:prstGeom prst="ellips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315200" y="2192400"/>
                <a:ext cx="137160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FMC Long 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ith multi-pair bonding and Actelis Technolog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bonded SHDS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084480" y="2401200"/>
              <a:ext cx="5754600" cy="2409480"/>
              <a:chOff x="3084480" y="2401200"/>
              <a:chExt cx="5754600" cy="2409480"/>
            </a:xfrm>
          </p:grpSpPr>
          <p:sp>
            <p:nvSpPr>
              <p:cNvPr id="172" name=""/>
              <p:cNvSpPr/>
              <p:nvPr/>
            </p:nvSpPr>
            <p:spPr>
              <a:xfrm>
                <a:off x="7315200" y="3537000"/>
                <a:ext cx="1295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EFMC Long 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(SHDSL based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84480" y="2401200"/>
                <a:ext cx="2685960" cy="24094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10480" y="3583440"/>
                <a:ext cx="228600" cy="50976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86040" y="2936160"/>
              <a:ext cx="5153040" cy="1544760"/>
              <a:chOff x="3686040" y="2936160"/>
              <a:chExt cx="5153040" cy="15447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86040" y="2936160"/>
                <a:ext cx="1487520" cy="1387440"/>
              </a:xfrm>
              <a:prstGeom prst="ellipse">
                <a:avLst/>
              </a:prstGeom>
              <a:solidFill>
                <a:srgbClr val="ffca1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610480" y="4093200"/>
                <a:ext cx="228600" cy="347400"/>
              </a:xfrm>
              <a:prstGeom prst="rect">
                <a:avLst/>
              </a:prstGeom>
              <a:solidFill>
                <a:srgbClr val="ffca1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15200" y="4094640"/>
                <a:ext cx="1295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EFMC Short 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(VDSL-based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008600" y="3792240"/>
              <a:ext cx="10666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</a:rPr>
                <a:t>Central Off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10480" y="2215800"/>
              <a:ext cx="228600" cy="25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47960" y="2775240"/>
              <a:ext cx="5991120" cy="2433240"/>
              <a:chOff x="2847960" y="2775240"/>
              <a:chExt cx="5991120" cy="2433240"/>
            </a:xfrm>
          </p:grpSpPr>
          <p:sp>
            <p:nvSpPr>
              <p:cNvPr id="182" name=""/>
              <p:cNvSpPr/>
              <p:nvPr/>
            </p:nvSpPr>
            <p:spPr>
              <a:xfrm>
                <a:off x="7391520" y="4466880"/>
                <a:ext cx="1218960" cy="18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EFM Fiber P2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610480" y="4466880"/>
                <a:ext cx="228600" cy="2779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847960" y="2775240"/>
                <a:ext cx="3857760" cy="2433240"/>
                <a:chOff x="2847960" y="2775240"/>
                <a:chExt cx="3857760" cy="2433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465800" y="3678840"/>
                  <a:ext cx="2239920" cy="15296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4465440" y="3261600"/>
                  <a:ext cx="252360" cy="27792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2847960" y="3525120"/>
                  <a:ext cx="1465200" cy="1652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389480" y="2775240"/>
                  <a:ext cx="3240" cy="7398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4237200" y="3444480"/>
              <a:ext cx="380880" cy="28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elis’ MetaLIGH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dukte-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44520" y="1219320"/>
            <a:ext cx="5715000" cy="5194080"/>
          </a:xfrm>
          <a:prstGeom prst="ellipse">
            <a:avLst/>
          </a:prstGeom>
          <a:gradFill rotWithShape="0">
            <a:gsLst>
              <a:gs pos="0">
                <a:srgbClr val="d5ebed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733920"/>
            <a:ext cx="3657600" cy="2895480"/>
          </a:xfrm>
          <a:prstGeom prst="ellipse">
            <a:avLst/>
          </a:prstGeom>
          <a:gradFill rotWithShape="0">
            <a:gsLst>
              <a:gs pos="0">
                <a:srgbClr val="dbfeec"/>
              </a:gs>
              <a:gs pos="100000">
                <a:srgbClr val="99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816520" y="4959360"/>
            <a:ext cx="1613160" cy="1431000"/>
            <a:chOff x="5816520" y="4959360"/>
            <a:chExt cx="1613160" cy="1431000"/>
          </a:xfrm>
        </p:grpSpPr>
        <p:sp>
          <p:nvSpPr>
            <p:cNvPr id="194" name=""/>
            <p:cNvSpPr/>
            <p:nvPr/>
          </p:nvSpPr>
          <p:spPr>
            <a:xfrm>
              <a:off x="5816520" y="5809680"/>
              <a:ext cx="161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ASSIST™ 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5932800" y="4959360"/>
              <a:ext cx="1242360" cy="867960"/>
            </a:xfrm>
            <a:prstGeom prst="rect">
              <a:avLst/>
            </a:prstGeom>
            <a:ln w="57240">
              <a:solidFill>
                <a:srgbClr val="6666ff"/>
              </a:solidFill>
              <a:miter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1714680" y="2550960"/>
            <a:ext cx="2193120" cy="692280"/>
            <a:chOff x="1714680" y="2550960"/>
            <a:chExt cx="2193120" cy="692280"/>
          </a:xfrm>
        </p:grpSpPr>
        <p:sp>
          <p:nvSpPr>
            <p:cNvPr id="197" name=""/>
            <p:cNvSpPr/>
            <p:nvPr/>
          </p:nvSpPr>
          <p:spPr>
            <a:xfrm>
              <a:off x="1770120" y="2550960"/>
              <a:ext cx="21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130 (C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rcRect l="0" t="35470" r="5771" b="18418"/>
            <a:stretch/>
          </p:blipFill>
          <p:spPr>
            <a:xfrm>
              <a:off x="1714680" y="2865240"/>
              <a:ext cx="19810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3865680" y="2286000"/>
            <a:ext cx="2250360" cy="1082520"/>
            <a:chOff x="3865680" y="2286000"/>
            <a:chExt cx="2250360" cy="1082520"/>
          </a:xfrm>
        </p:grpSpPr>
        <p:sp>
          <p:nvSpPr>
            <p:cNvPr id="200" name=""/>
            <p:cNvSpPr/>
            <p:nvPr/>
          </p:nvSpPr>
          <p:spPr>
            <a:xfrm>
              <a:off x="3865680" y="2286000"/>
              <a:ext cx="22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2300 (C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4025520" y="2562120"/>
              <a:ext cx="1973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1816920" y="3468600"/>
            <a:ext cx="4060800" cy="484200"/>
            <a:chOff x="1816920" y="3468600"/>
            <a:chExt cx="4060800" cy="484200"/>
          </a:xfrm>
        </p:grpSpPr>
        <p:sp>
          <p:nvSpPr>
            <p:cNvPr id="203" name=""/>
            <p:cNvSpPr/>
            <p:nvPr/>
          </p:nvSpPr>
          <p:spPr>
            <a:xfrm>
              <a:off x="1816920" y="3468600"/>
              <a:ext cx="406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6x8 (CPE and Point-to-Po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4">
              <a:lum contrast="30000"/>
            </a:blip>
            <a:stretch/>
          </p:blipFill>
          <p:spPr>
            <a:xfrm>
              <a:off x="2163960" y="3760560"/>
              <a:ext cx="990360" cy="1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1777680" y="4103640"/>
            <a:ext cx="1643760" cy="471600"/>
            <a:chOff x="1777680" y="4103640"/>
            <a:chExt cx="1643760" cy="471600"/>
          </a:xfrm>
        </p:grpSpPr>
        <p:pic>
          <p:nvPicPr>
            <p:cNvPr id="206" name="" descr=""/>
            <p:cNvPicPr/>
            <p:nvPr/>
          </p:nvPicPr>
          <p:blipFill>
            <a:blip r:embed="rId5">
              <a:lum contrast="30000"/>
            </a:blip>
            <a:stretch/>
          </p:blipFill>
          <p:spPr>
            <a:xfrm>
              <a:off x="2066760" y="4389480"/>
              <a:ext cx="97200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777680" y="410364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6x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996560" y="4727520"/>
            <a:ext cx="1643760" cy="452520"/>
            <a:chOff x="1996560" y="4727520"/>
            <a:chExt cx="1643760" cy="452520"/>
          </a:xfrm>
        </p:grpSpPr>
        <p:pic>
          <p:nvPicPr>
            <p:cNvPr id="209" name="" descr=""/>
            <p:cNvPicPr/>
            <p:nvPr/>
          </p:nvPicPr>
          <p:blipFill>
            <a:blip r:embed="rId6">
              <a:lum contrast="30000"/>
            </a:blip>
            <a:stretch/>
          </p:blipFill>
          <p:spPr>
            <a:xfrm>
              <a:off x="2293560" y="4997520"/>
              <a:ext cx="9626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996560" y="472752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6x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258080" y="4959360"/>
            <a:ext cx="1578240" cy="1440720"/>
            <a:chOff x="4258080" y="4959360"/>
            <a:chExt cx="1578240" cy="1440720"/>
          </a:xfrm>
        </p:grpSpPr>
        <p:sp>
          <p:nvSpPr>
            <p:cNvPr id="212" name=""/>
            <p:cNvSpPr/>
            <p:nvPr/>
          </p:nvSpPr>
          <p:spPr>
            <a:xfrm>
              <a:off x="4258080" y="5819400"/>
              <a:ext cx="157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ASSIST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7"/>
            <a:stretch/>
          </p:blipFill>
          <p:spPr>
            <a:xfrm>
              <a:off x="4413960" y="4959360"/>
              <a:ext cx="1103040" cy="838080"/>
            </a:xfrm>
            <a:prstGeom prst="rect">
              <a:avLst/>
            </a:prstGeom>
            <a:ln w="57240">
              <a:solidFill>
                <a:srgbClr val="6666ff"/>
              </a:solidFill>
              <a:miter/>
            </a:ln>
          </p:spPr>
        </p:pic>
      </p:grpSp>
      <p:sp>
        <p:nvSpPr>
          <p:cNvPr id="214" name=""/>
          <p:cNvSpPr/>
          <p:nvPr/>
        </p:nvSpPr>
        <p:spPr>
          <a:xfrm>
            <a:off x="257796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EFM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6760" y="4444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etwor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2971800" y="5638680"/>
            <a:ext cx="1038240" cy="452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2600" y="533412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LIGHT 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ögliche Einsatzbere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523880"/>
            <a:ext cx="83818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ls Ergänzung (Verlängerung oder Brücke) auf bestehenden eigenen CAT 5, 6 und 7 Kabel oder anderen Multiwire-Kupferleitungen zu öffentlichen und privaten Glasfaser- und Funkdatenne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ctelis verfügt über eine Palette von Interfaces f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Unterschiedliche Schnittstellen zu Kupfer &amp; Op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Interoperablität zu Cisco, Alcatel, Siemens u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nbindung von Basisstationen und Telefonzentralen mit synchronen E1 &amp; E3 Interfaces über Kup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insatz von EFM-Repeatern mit Speisung über das Datenkabel mit bis zu 50km Reichweite ist optional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ögliche Anwendungen von Actelis Produk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3048120"/>
            <a:ext cx="4716360" cy="1528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1344600" cy="1014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990720" cy="1193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957920" y="4292640"/>
            <a:ext cx="3119400" cy="111744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153200">
            <a:off x="5708520" y="4748040"/>
            <a:ext cx="1355760" cy="8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299200" y="2555640"/>
            <a:ext cx="1944720" cy="65700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6400" y="2579760"/>
            <a:ext cx="1581120" cy="76680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59000">
            <a:off x="1014120" y="2925720"/>
            <a:ext cx="1143000" cy="9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1447920"/>
            <a:ext cx="25909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ymmetrical High-Speed (10Mbps to 100Mb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Ethernet over Copper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for 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0444400">
            <a:off x="5495760" y="2922480"/>
            <a:ext cx="1194120" cy="98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9400" y="1785960"/>
            <a:ext cx="1844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Remote (IP) D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Backha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DSL/V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nt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2240" y="3130560"/>
            <a:ext cx="274680" cy="268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2240" y="3130560"/>
            <a:ext cx="274680" cy="26820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5200" y="3147840"/>
            <a:ext cx="171360" cy="169920"/>
          </a:xfrm>
          <a:custGeom>
            <a:avLst/>
            <a:gdLst/>
            <a:ahLst/>
            <a:rect l="l" t="t" r="r" b="b"/>
            <a:pathLst>
              <a:path w="215" h="215">
                <a:moveTo>
                  <a:pt x="9" y="215"/>
                </a:moveTo>
                <a:lnTo>
                  <a:pt x="170" y="57"/>
                </a:lnTo>
                <a:lnTo>
                  <a:pt x="184" y="74"/>
                </a:lnTo>
                <a:lnTo>
                  <a:pt x="215" y="0"/>
                </a:lnTo>
                <a:lnTo>
                  <a:pt x="144" y="32"/>
                </a:lnTo>
                <a:lnTo>
                  <a:pt x="157" y="47"/>
                </a:lnTo>
                <a:lnTo>
                  <a:pt x="0" y="202"/>
                </a:lnTo>
                <a:lnTo>
                  <a:pt x="9" y="21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5200" y="3147840"/>
            <a:ext cx="171360" cy="169920"/>
          </a:xfrm>
          <a:custGeom>
            <a:avLst/>
            <a:gdLst/>
            <a:ahLst/>
            <a:rect l="l" t="t" r="r" b="b"/>
            <a:pathLst>
              <a:path w="215" h="215">
                <a:moveTo>
                  <a:pt x="9" y="215"/>
                </a:moveTo>
                <a:lnTo>
                  <a:pt x="170" y="57"/>
                </a:lnTo>
                <a:lnTo>
                  <a:pt x="184" y="74"/>
                </a:lnTo>
                <a:lnTo>
                  <a:pt x="215" y="0"/>
                </a:lnTo>
                <a:lnTo>
                  <a:pt x="144" y="32"/>
                </a:lnTo>
                <a:lnTo>
                  <a:pt x="157" y="47"/>
                </a:lnTo>
                <a:lnTo>
                  <a:pt x="0" y="202"/>
                </a:lnTo>
                <a:lnTo>
                  <a:pt x="9" y="21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3214800"/>
            <a:ext cx="173160" cy="168120"/>
          </a:xfrm>
          <a:custGeom>
            <a:avLst/>
            <a:gdLst/>
            <a:ahLst/>
            <a:rect l="l" t="t" r="r" b="b"/>
            <a:pathLst>
              <a:path w="219" h="213">
                <a:moveTo>
                  <a:pt x="12" y="213"/>
                </a:moveTo>
                <a:lnTo>
                  <a:pt x="171" y="55"/>
                </a:lnTo>
                <a:lnTo>
                  <a:pt x="188" y="72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199"/>
                </a:lnTo>
                <a:lnTo>
                  <a:pt x="12" y="21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3214800"/>
            <a:ext cx="173160" cy="168120"/>
          </a:xfrm>
          <a:custGeom>
            <a:avLst/>
            <a:gdLst/>
            <a:ahLst/>
            <a:rect l="l" t="t" r="r" b="b"/>
            <a:pathLst>
              <a:path w="219" h="213">
                <a:moveTo>
                  <a:pt x="12" y="213"/>
                </a:moveTo>
                <a:lnTo>
                  <a:pt x="171" y="55"/>
                </a:lnTo>
                <a:lnTo>
                  <a:pt x="188" y="72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199"/>
                </a:lnTo>
                <a:lnTo>
                  <a:pt x="12" y="21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7040" y="2438280"/>
            <a:ext cx="149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ntral Office with Voic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Data Swi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1880" y="358128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ro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7880" y="5078520"/>
            <a:ext cx="204840" cy="77760"/>
          </a:xfrm>
          <a:custGeom>
            <a:avLst/>
            <a:gdLst/>
            <a:ahLst/>
            <a:rect l="l" t="t" r="r" b="b"/>
            <a:pathLst>
              <a:path w="257" h="97">
                <a:moveTo>
                  <a:pt x="101" y="0"/>
                </a:moveTo>
                <a:lnTo>
                  <a:pt x="0" y="97"/>
                </a:lnTo>
                <a:lnTo>
                  <a:pt x="157" y="97"/>
                </a:lnTo>
                <a:lnTo>
                  <a:pt x="257" y="0"/>
                </a:lnTo>
                <a:lnTo>
                  <a:pt x="101" y="0"/>
                </a:lnTo>
                <a:close/>
              </a:path>
            </a:pathLst>
          </a:custGeom>
          <a:solidFill>
            <a:srgbClr val="d8d8d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27880" y="5078520"/>
            <a:ext cx="204840" cy="77760"/>
          </a:xfrm>
          <a:custGeom>
            <a:avLst/>
            <a:gdLst/>
            <a:ahLst/>
            <a:rect l="l" t="t" r="r" b="b"/>
            <a:pathLst>
              <a:path w="257" h="97">
                <a:moveTo>
                  <a:pt x="101" y="0"/>
                </a:moveTo>
                <a:lnTo>
                  <a:pt x="0" y="97"/>
                </a:lnTo>
                <a:lnTo>
                  <a:pt x="157" y="97"/>
                </a:lnTo>
                <a:lnTo>
                  <a:pt x="257" y="0"/>
                </a:lnTo>
                <a:lnTo>
                  <a:pt x="101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46960" y="5192640"/>
            <a:ext cx="39600" cy="41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46960" y="5192640"/>
            <a:ext cx="39600" cy="41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02400" y="5192640"/>
            <a:ext cx="36720" cy="41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02400" y="5192640"/>
            <a:ext cx="36720" cy="41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46960" y="5261040"/>
            <a:ext cx="39600" cy="41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46960" y="5261040"/>
            <a:ext cx="39600" cy="41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02400" y="5261040"/>
            <a:ext cx="36720" cy="41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05240" y="4081320"/>
            <a:ext cx="274680" cy="270000"/>
            <a:chOff x="3405240" y="4081320"/>
            <a:chExt cx="274680" cy="270000"/>
          </a:xfrm>
        </p:grpSpPr>
        <p:sp>
          <p:nvSpPr>
            <p:cNvPr id="250" name=""/>
            <p:cNvSpPr/>
            <p:nvPr/>
          </p:nvSpPr>
          <p:spPr>
            <a:xfrm>
              <a:off x="3405240" y="4081320"/>
              <a:ext cx="274680" cy="27000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5240" y="4081320"/>
              <a:ext cx="274680" cy="27000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19640" y="4098960"/>
              <a:ext cx="168120" cy="169920"/>
            </a:xfrm>
            <a:custGeom>
              <a:avLst/>
              <a:gdLst/>
              <a:ahLst/>
              <a:rect l="l" t="t" r="r" b="b"/>
              <a:pathLst>
                <a:path w="213" h="214">
                  <a:moveTo>
                    <a:pt x="10" y="214"/>
                  </a:moveTo>
                  <a:lnTo>
                    <a:pt x="169" y="56"/>
                  </a:lnTo>
                  <a:lnTo>
                    <a:pt x="184" y="73"/>
                  </a:lnTo>
                  <a:lnTo>
                    <a:pt x="213" y="0"/>
                  </a:lnTo>
                  <a:lnTo>
                    <a:pt x="142" y="32"/>
                  </a:lnTo>
                  <a:lnTo>
                    <a:pt x="156" y="47"/>
                  </a:lnTo>
                  <a:lnTo>
                    <a:pt x="0" y="201"/>
                  </a:lnTo>
                  <a:lnTo>
                    <a:pt x="10" y="2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9640" y="4098960"/>
              <a:ext cx="168120" cy="169920"/>
            </a:xfrm>
            <a:custGeom>
              <a:avLst/>
              <a:gdLst/>
              <a:ahLst/>
              <a:rect l="l" t="t" r="r" b="b"/>
              <a:pathLst>
                <a:path w="213" h="214">
                  <a:moveTo>
                    <a:pt x="10" y="214"/>
                  </a:moveTo>
                  <a:lnTo>
                    <a:pt x="169" y="56"/>
                  </a:lnTo>
                  <a:lnTo>
                    <a:pt x="184" y="73"/>
                  </a:lnTo>
                  <a:lnTo>
                    <a:pt x="213" y="0"/>
                  </a:lnTo>
                  <a:lnTo>
                    <a:pt x="142" y="32"/>
                  </a:lnTo>
                  <a:lnTo>
                    <a:pt x="156" y="47"/>
                  </a:lnTo>
                  <a:lnTo>
                    <a:pt x="0" y="201"/>
                  </a:lnTo>
                  <a:lnTo>
                    <a:pt x="10" y="2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4440" y="4164120"/>
              <a:ext cx="171720" cy="169920"/>
            </a:xfrm>
            <a:custGeom>
              <a:avLst/>
              <a:gdLst/>
              <a:ahLst/>
              <a:rect l="l" t="t" r="r" b="b"/>
              <a:pathLst>
                <a:path w="217" h="215">
                  <a:moveTo>
                    <a:pt x="11" y="215"/>
                  </a:moveTo>
                  <a:lnTo>
                    <a:pt x="169" y="57"/>
                  </a:lnTo>
                  <a:lnTo>
                    <a:pt x="186" y="74"/>
                  </a:lnTo>
                  <a:lnTo>
                    <a:pt x="217" y="0"/>
                  </a:lnTo>
                  <a:lnTo>
                    <a:pt x="144" y="31"/>
                  </a:lnTo>
                  <a:lnTo>
                    <a:pt x="159" y="47"/>
                  </a:lnTo>
                  <a:lnTo>
                    <a:pt x="0" y="202"/>
                  </a:lnTo>
                  <a:lnTo>
                    <a:pt x="11" y="2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84440" y="4164120"/>
              <a:ext cx="171720" cy="169920"/>
            </a:xfrm>
            <a:custGeom>
              <a:avLst/>
              <a:gdLst/>
              <a:ahLst/>
              <a:rect l="l" t="t" r="r" b="b"/>
              <a:pathLst>
                <a:path w="217" h="215">
                  <a:moveTo>
                    <a:pt x="11" y="215"/>
                  </a:moveTo>
                  <a:lnTo>
                    <a:pt x="169" y="57"/>
                  </a:lnTo>
                  <a:lnTo>
                    <a:pt x="186" y="74"/>
                  </a:lnTo>
                  <a:lnTo>
                    <a:pt x="217" y="0"/>
                  </a:lnTo>
                  <a:lnTo>
                    <a:pt x="144" y="31"/>
                  </a:lnTo>
                  <a:lnTo>
                    <a:pt x="159" y="47"/>
                  </a:lnTo>
                  <a:lnTo>
                    <a:pt x="0" y="202"/>
                  </a:lnTo>
                  <a:lnTo>
                    <a:pt x="11" y="2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318360" y="3857760"/>
            <a:ext cx="276120" cy="269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18360" y="3857760"/>
            <a:ext cx="276120" cy="26964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2400" y="3875040"/>
            <a:ext cx="171720" cy="169920"/>
          </a:xfrm>
          <a:custGeom>
            <a:avLst/>
            <a:gdLst/>
            <a:ahLst/>
            <a:rect l="l" t="t" r="r" b="b"/>
            <a:pathLst>
              <a:path w="215" h="214">
                <a:moveTo>
                  <a:pt x="10" y="214"/>
                </a:moveTo>
                <a:lnTo>
                  <a:pt x="171" y="56"/>
                </a:lnTo>
                <a:lnTo>
                  <a:pt x="184" y="73"/>
                </a:lnTo>
                <a:lnTo>
                  <a:pt x="215" y="0"/>
                </a:lnTo>
                <a:lnTo>
                  <a:pt x="144" y="32"/>
                </a:lnTo>
                <a:lnTo>
                  <a:pt x="158" y="47"/>
                </a:lnTo>
                <a:lnTo>
                  <a:pt x="0" y="201"/>
                </a:lnTo>
                <a:lnTo>
                  <a:pt x="10" y="21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32400" y="3875040"/>
            <a:ext cx="171720" cy="169920"/>
          </a:xfrm>
          <a:custGeom>
            <a:avLst/>
            <a:gdLst/>
            <a:ahLst/>
            <a:rect l="l" t="t" r="r" b="b"/>
            <a:pathLst>
              <a:path w="215" h="214">
                <a:moveTo>
                  <a:pt x="10" y="214"/>
                </a:moveTo>
                <a:lnTo>
                  <a:pt x="171" y="56"/>
                </a:lnTo>
                <a:lnTo>
                  <a:pt x="184" y="73"/>
                </a:lnTo>
                <a:lnTo>
                  <a:pt x="215" y="0"/>
                </a:lnTo>
                <a:lnTo>
                  <a:pt x="144" y="32"/>
                </a:lnTo>
                <a:lnTo>
                  <a:pt x="158" y="47"/>
                </a:lnTo>
                <a:lnTo>
                  <a:pt x="0" y="201"/>
                </a:lnTo>
                <a:lnTo>
                  <a:pt x="10" y="2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97560" y="3940200"/>
            <a:ext cx="174600" cy="169920"/>
          </a:xfrm>
          <a:custGeom>
            <a:avLst/>
            <a:gdLst/>
            <a:ahLst/>
            <a:rect l="l" t="t" r="r" b="b"/>
            <a:pathLst>
              <a:path w="219" h="214">
                <a:moveTo>
                  <a:pt x="11" y="214"/>
                </a:moveTo>
                <a:lnTo>
                  <a:pt x="171" y="56"/>
                </a:lnTo>
                <a:lnTo>
                  <a:pt x="188" y="73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201"/>
                </a:lnTo>
                <a:lnTo>
                  <a:pt x="11" y="21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97560" y="3940200"/>
            <a:ext cx="174600" cy="169920"/>
          </a:xfrm>
          <a:custGeom>
            <a:avLst/>
            <a:gdLst/>
            <a:ahLst/>
            <a:rect l="l" t="t" r="r" b="b"/>
            <a:pathLst>
              <a:path w="219" h="214">
                <a:moveTo>
                  <a:pt x="11" y="214"/>
                </a:moveTo>
                <a:lnTo>
                  <a:pt x="171" y="56"/>
                </a:lnTo>
                <a:lnTo>
                  <a:pt x="188" y="73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201"/>
                </a:lnTo>
                <a:lnTo>
                  <a:pt x="11" y="2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42040" y="2228760"/>
            <a:ext cx="544680" cy="84240"/>
          </a:xfrm>
          <a:custGeom>
            <a:avLst/>
            <a:gdLst/>
            <a:ahLst/>
            <a:rect l="l" t="t" r="r" b="b"/>
            <a:pathLst>
              <a:path w="685" h="105">
                <a:moveTo>
                  <a:pt x="685" y="0"/>
                </a:moveTo>
                <a:lnTo>
                  <a:pt x="109" y="0"/>
                </a:lnTo>
                <a:lnTo>
                  <a:pt x="0" y="105"/>
                </a:lnTo>
                <a:lnTo>
                  <a:pt x="576" y="105"/>
                </a:lnTo>
                <a:lnTo>
                  <a:pt x="685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99240" y="2228760"/>
            <a:ext cx="87480" cy="532080"/>
          </a:xfrm>
          <a:custGeom>
            <a:avLst/>
            <a:gdLst/>
            <a:ahLst/>
            <a:rect l="l" t="t" r="r" b="b"/>
            <a:pathLst>
              <a:path w="109" h="669">
                <a:moveTo>
                  <a:pt x="0" y="105"/>
                </a:moveTo>
                <a:lnTo>
                  <a:pt x="109" y="0"/>
                </a:lnTo>
                <a:lnTo>
                  <a:pt x="109" y="564"/>
                </a:lnTo>
                <a:lnTo>
                  <a:pt x="0" y="669"/>
                </a:lnTo>
                <a:lnTo>
                  <a:pt x="0" y="105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45440" y="2448000"/>
            <a:ext cx="212760" cy="23760"/>
          </a:xfrm>
          <a:custGeom>
            <a:avLst/>
            <a:gdLst/>
            <a:ahLst/>
            <a:rect l="l" t="t" r="r" b="b"/>
            <a:pathLst>
              <a:path w="267" h="28">
                <a:moveTo>
                  <a:pt x="0" y="28"/>
                </a:moveTo>
                <a:lnTo>
                  <a:pt x="29" y="0"/>
                </a:lnTo>
                <a:lnTo>
                  <a:pt x="267" y="0"/>
                </a:lnTo>
                <a:lnTo>
                  <a:pt x="26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45440" y="2338560"/>
            <a:ext cx="212760" cy="21960"/>
          </a:xfrm>
          <a:custGeom>
            <a:avLst/>
            <a:gdLst/>
            <a:ahLst/>
            <a:rect l="l" t="t" r="r" b="b"/>
            <a:pathLst>
              <a:path w="267" h="28">
                <a:moveTo>
                  <a:pt x="29" y="28"/>
                </a:moveTo>
                <a:lnTo>
                  <a:pt x="267" y="28"/>
                </a:lnTo>
                <a:lnTo>
                  <a:pt x="267" y="0"/>
                </a:lnTo>
                <a:lnTo>
                  <a:pt x="0" y="0"/>
                </a:lnTo>
                <a:lnTo>
                  <a:pt x="29" y="28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96280" y="2363760"/>
            <a:ext cx="50760" cy="41400"/>
          </a:xfrm>
          <a:custGeom>
            <a:avLst/>
            <a:gdLst/>
            <a:ahLst/>
            <a:rect l="l" t="t" r="r" b="b"/>
            <a:pathLst>
              <a:path w="63" h="52">
                <a:moveTo>
                  <a:pt x="0" y="0"/>
                </a:moveTo>
                <a:lnTo>
                  <a:pt x="63" y="0"/>
                </a:lnTo>
                <a:lnTo>
                  <a:pt x="63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96280" y="2363760"/>
            <a:ext cx="47520" cy="38160"/>
          </a:xfrm>
          <a:custGeom>
            <a:avLst/>
            <a:gdLst/>
            <a:ahLst/>
            <a:rect l="l" t="t" r="r" b="b"/>
            <a:pathLst>
              <a:path w="59" h="49"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0ff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96280" y="2363760"/>
            <a:ext cx="44280" cy="34920"/>
          </a:xfrm>
          <a:custGeom>
            <a:avLst/>
            <a:gdLst/>
            <a:ahLst/>
            <a:rect l="l" t="t" r="r" b="b"/>
            <a:pathLst>
              <a:path w="56" h="45"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1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96280" y="2363760"/>
            <a:ext cx="41040" cy="34920"/>
          </a:xfrm>
          <a:custGeom>
            <a:avLst/>
            <a:gdLst/>
            <a:ahLst/>
            <a:rect l="l" t="t" r="r" b="b"/>
            <a:pathLst>
              <a:path w="52" h="43"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2f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96280" y="2363760"/>
            <a:ext cx="38160" cy="31680"/>
          </a:xfrm>
          <a:custGeom>
            <a:avLst/>
            <a:gdLst/>
            <a:ahLst/>
            <a:rect l="l" t="t" r="r" b="b"/>
            <a:pathLst>
              <a:path w="48" h="39"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42f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96280" y="2363760"/>
            <a:ext cx="36360" cy="30240"/>
          </a:xfrm>
          <a:custGeom>
            <a:avLst/>
            <a:gdLst/>
            <a:ahLst/>
            <a:rect l="l" t="t" r="r" b="b"/>
            <a:pathLst>
              <a:path w="44" h="37"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56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96280" y="2363760"/>
            <a:ext cx="33120" cy="27000"/>
          </a:xfrm>
          <a:custGeom>
            <a:avLst/>
            <a:gdLst/>
            <a:ahLst/>
            <a:rect l="l" t="t" r="r" b="b"/>
            <a:pathLst>
              <a:path w="40" h="34"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6cf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96280" y="2363760"/>
            <a:ext cx="29880" cy="2376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84f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96280" y="2363760"/>
            <a:ext cx="27000" cy="22320"/>
          </a:xfrm>
          <a:custGeom>
            <a:avLst/>
            <a:gdLst/>
            <a:ahLst/>
            <a:rect l="l" t="t" r="r" b="b"/>
            <a:pathLst>
              <a:path w="33" h="28"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6280" y="2363760"/>
            <a:ext cx="23760" cy="1908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b4ff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96280" y="2363760"/>
            <a:ext cx="20520" cy="17640"/>
          </a:xfrm>
          <a:custGeom>
            <a:avLst/>
            <a:gdLst/>
            <a:ahLst/>
            <a:rect l="l" t="t" r="r" b="b"/>
            <a:pathLst>
              <a:path w="25" h="22"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96280" y="2363760"/>
            <a:ext cx="17280" cy="144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d4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6280" y="2363760"/>
            <a:ext cx="14040" cy="11160"/>
          </a:xfrm>
          <a:custGeom>
            <a:avLst/>
            <a:gdLst/>
            <a:ahLst/>
            <a:rect l="l" t="t" r="r" b="b"/>
            <a:pathLst>
              <a:path w="17" h="15"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6280" y="2363760"/>
            <a:ext cx="11160" cy="97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eb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96280" y="2363760"/>
            <a:ext cx="7920" cy="792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4f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96280" y="236376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c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96280" y="23637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96280" y="2363760"/>
            <a:ext cx="5076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96280" y="2363760"/>
            <a:ext cx="50760" cy="41400"/>
          </a:xfrm>
          <a:custGeom>
            <a:avLst/>
            <a:gdLst/>
            <a:ahLst/>
            <a:rect l="l" t="t" r="r" b="b"/>
            <a:pathLst>
              <a:path w="63" h="52">
                <a:moveTo>
                  <a:pt x="0" y="0"/>
                </a:moveTo>
                <a:lnTo>
                  <a:pt x="63" y="0"/>
                </a:lnTo>
                <a:lnTo>
                  <a:pt x="63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96280" y="2363760"/>
            <a:ext cx="47520" cy="38160"/>
          </a:xfrm>
          <a:custGeom>
            <a:avLst/>
            <a:gdLst/>
            <a:ahLst/>
            <a:rect l="l" t="t" r="r" b="b"/>
            <a:pathLst>
              <a:path w="59" h="49"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0ff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96280" y="2363760"/>
            <a:ext cx="44280" cy="34920"/>
          </a:xfrm>
          <a:custGeom>
            <a:avLst/>
            <a:gdLst/>
            <a:ahLst/>
            <a:rect l="l" t="t" r="r" b="b"/>
            <a:pathLst>
              <a:path w="56" h="45"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1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96280" y="2363760"/>
            <a:ext cx="41040" cy="34920"/>
          </a:xfrm>
          <a:custGeom>
            <a:avLst/>
            <a:gdLst/>
            <a:ahLst/>
            <a:rect l="l" t="t" r="r" b="b"/>
            <a:pathLst>
              <a:path w="52" h="43"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2f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96280" y="2363760"/>
            <a:ext cx="38160" cy="31680"/>
          </a:xfrm>
          <a:custGeom>
            <a:avLst/>
            <a:gdLst/>
            <a:ahLst/>
            <a:rect l="l" t="t" r="r" b="b"/>
            <a:pathLst>
              <a:path w="48" h="39"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42f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96280" y="2363760"/>
            <a:ext cx="36360" cy="30240"/>
          </a:xfrm>
          <a:custGeom>
            <a:avLst/>
            <a:gdLst/>
            <a:ahLst/>
            <a:rect l="l" t="t" r="r" b="b"/>
            <a:pathLst>
              <a:path w="44" h="37"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56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96280" y="2363760"/>
            <a:ext cx="33120" cy="27000"/>
          </a:xfrm>
          <a:custGeom>
            <a:avLst/>
            <a:gdLst/>
            <a:ahLst/>
            <a:rect l="l" t="t" r="r" b="b"/>
            <a:pathLst>
              <a:path w="40" h="34"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6cf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96280" y="2363760"/>
            <a:ext cx="29880" cy="2376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84f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96280" y="2363760"/>
            <a:ext cx="27000" cy="22320"/>
          </a:xfrm>
          <a:custGeom>
            <a:avLst/>
            <a:gdLst/>
            <a:ahLst/>
            <a:rect l="l" t="t" r="r" b="b"/>
            <a:pathLst>
              <a:path w="33" h="28"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96280" y="2363760"/>
            <a:ext cx="23760" cy="1908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b4ff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96280" y="2363760"/>
            <a:ext cx="20520" cy="17640"/>
          </a:xfrm>
          <a:custGeom>
            <a:avLst/>
            <a:gdLst/>
            <a:ahLst/>
            <a:rect l="l" t="t" r="r" b="b"/>
            <a:pathLst>
              <a:path w="25" h="22"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96280" y="2363760"/>
            <a:ext cx="17280" cy="144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d4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96280" y="2363760"/>
            <a:ext cx="14040" cy="11160"/>
          </a:xfrm>
          <a:custGeom>
            <a:avLst/>
            <a:gdLst/>
            <a:ahLst/>
            <a:rect l="l" t="t" r="r" b="b"/>
            <a:pathLst>
              <a:path w="17" h="15"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96280" y="2363760"/>
            <a:ext cx="11160" cy="97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eb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96280" y="2363760"/>
            <a:ext cx="7920" cy="792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4f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96280" y="236376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c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96280" y="23637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91520" y="2363760"/>
            <a:ext cx="83880" cy="41400"/>
          </a:xfrm>
          <a:custGeom>
            <a:avLst/>
            <a:gdLst/>
            <a:ahLst/>
            <a:rect l="l" t="t" r="r" b="b"/>
            <a:pathLst>
              <a:path w="106" h="52">
                <a:moveTo>
                  <a:pt x="0" y="0"/>
                </a:moveTo>
                <a:lnTo>
                  <a:pt x="106" y="0"/>
                </a:lnTo>
                <a:lnTo>
                  <a:pt x="106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</a:path>
            </a:pathLst>
          </a:custGeom>
          <a:solidFill>
            <a:srgbClr val="8a8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2363760"/>
            <a:ext cx="81000" cy="39600"/>
          </a:xfrm>
          <a:custGeom>
            <a:avLst/>
            <a:gdLst/>
            <a:ahLst/>
            <a:rect l="l" t="t" r="r" b="b"/>
            <a:pathLst>
              <a:path w="102" h="51"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8e8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2363760"/>
            <a:ext cx="77760" cy="3816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</a:path>
            </a:pathLst>
          </a:custGeom>
          <a:solidFill>
            <a:srgbClr val="929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2363760"/>
            <a:ext cx="74520" cy="36720"/>
          </a:xfrm>
          <a:custGeom>
            <a:avLst/>
            <a:gdLst/>
            <a:ahLst/>
            <a:rect l="l" t="t" r="r" b="b"/>
            <a:pathLst>
              <a:path w="95" h="47"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2363760"/>
            <a:ext cx="71280" cy="34920"/>
          </a:xfrm>
          <a:custGeom>
            <a:avLst/>
            <a:gdLst/>
            <a:ahLst/>
            <a:rect l="l" t="t" r="r" b="b"/>
            <a:pathLst>
              <a:path w="91" h="45"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9b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2363760"/>
            <a:ext cx="68040" cy="34920"/>
          </a:xfrm>
          <a:custGeom>
            <a:avLst/>
            <a:gdLst/>
            <a:ahLst/>
            <a:rect l="l" t="t" r="r" b="b"/>
            <a:pathLst>
              <a:path w="87" h="43"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</a:path>
            </a:pathLst>
          </a:custGeom>
          <a:solidFill>
            <a:srgbClr val="a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2363760"/>
            <a:ext cx="66600" cy="33480"/>
          </a:xfrm>
          <a:custGeom>
            <a:avLst/>
            <a:gdLst/>
            <a:ahLst/>
            <a:rect l="l" t="t" r="r" b="b"/>
            <a:pathLst>
              <a:path w="83" h="41"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a5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2363760"/>
            <a:ext cx="63360" cy="3168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b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2363760"/>
            <a:ext cx="60120" cy="30240"/>
          </a:xfrm>
          <a:custGeom>
            <a:avLst/>
            <a:gdLst/>
            <a:ahLst/>
            <a:rect l="l" t="t" r="r" b="b"/>
            <a:pathLst>
              <a:path w="75" h="37"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b1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363760"/>
            <a:ext cx="56880" cy="284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2363760"/>
            <a:ext cx="54000" cy="27000"/>
          </a:xfrm>
          <a:custGeom>
            <a:avLst/>
            <a:gdLst/>
            <a:ahLst/>
            <a:rect l="l" t="t" r="r" b="b"/>
            <a:pathLst>
              <a:path w="68" h="34"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bd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2363760"/>
            <a:ext cx="50760" cy="2556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c4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1520" y="2363760"/>
            <a:ext cx="47520" cy="2376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363760"/>
            <a:ext cx="44280" cy="22320"/>
          </a:xfrm>
          <a:custGeom>
            <a:avLst/>
            <a:gdLst/>
            <a:ahLst/>
            <a:rect l="l" t="t" r="r" b="b"/>
            <a:pathLst>
              <a:path w="56" h="28"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d3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2363760"/>
            <a:ext cx="41040" cy="2052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363760"/>
            <a:ext cx="38160" cy="1908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d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2363760"/>
            <a:ext cx="34920" cy="1764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e4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2363760"/>
            <a:ext cx="31680" cy="1584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e8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363760"/>
            <a:ext cx="28440" cy="1440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e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91520" y="2363760"/>
            <a:ext cx="27000" cy="126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91520" y="2363760"/>
            <a:ext cx="23760" cy="11160"/>
          </a:xfrm>
          <a:custGeom>
            <a:avLst/>
            <a:gdLst/>
            <a:ahLst/>
            <a:rect l="l" t="t" r="r" b="b"/>
            <a:pathLst>
              <a:path w="29" h="15"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91520" y="2363760"/>
            <a:ext cx="20520" cy="972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6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2363760"/>
            <a:ext cx="17280" cy="972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f9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91520" y="2363760"/>
            <a:ext cx="14040" cy="792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b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91520" y="2363760"/>
            <a:ext cx="11160" cy="648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d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2363760"/>
            <a:ext cx="9360" cy="468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2363760"/>
            <a:ext cx="6120" cy="324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91520" y="2363760"/>
            <a:ext cx="28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23637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2363760"/>
            <a:ext cx="8388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2363760"/>
            <a:ext cx="83880" cy="41400"/>
          </a:xfrm>
          <a:custGeom>
            <a:avLst/>
            <a:gdLst/>
            <a:ahLst/>
            <a:rect l="l" t="t" r="r" b="b"/>
            <a:pathLst>
              <a:path w="106" h="52">
                <a:moveTo>
                  <a:pt x="0" y="0"/>
                </a:moveTo>
                <a:lnTo>
                  <a:pt x="106" y="0"/>
                </a:lnTo>
                <a:lnTo>
                  <a:pt x="106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</a:path>
            </a:pathLst>
          </a:custGeom>
          <a:solidFill>
            <a:srgbClr val="8a8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91520" y="2363760"/>
            <a:ext cx="81000" cy="39600"/>
          </a:xfrm>
          <a:custGeom>
            <a:avLst/>
            <a:gdLst/>
            <a:ahLst/>
            <a:rect l="l" t="t" r="r" b="b"/>
            <a:pathLst>
              <a:path w="102" h="51"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8e8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91520" y="2363760"/>
            <a:ext cx="77760" cy="3816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</a:path>
            </a:pathLst>
          </a:custGeom>
          <a:solidFill>
            <a:srgbClr val="929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91520" y="2363760"/>
            <a:ext cx="74520" cy="36720"/>
          </a:xfrm>
          <a:custGeom>
            <a:avLst/>
            <a:gdLst/>
            <a:ahLst/>
            <a:rect l="l" t="t" r="r" b="b"/>
            <a:pathLst>
              <a:path w="95" h="47"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2363760"/>
            <a:ext cx="71280" cy="34920"/>
          </a:xfrm>
          <a:custGeom>
            <a:avLst/>
            <a:gdLst/>
            <a:ahLst/>
            <a:rect l="l" t="t" r="r" b="b"/>
            <a:pathLst>
              <a:path w="91" h="45"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9b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2363760"/>
            <a:ext cx="68040" cy="34920"/>
          </a:xfrm>
          <a:custGeom>
            <a:avLst/>
            <a:gdLst/>
            <a:ahLst/>
            <a:rect l="l" t="t" r="r" b="b"/>
            <a:pathLst>
              <a:path w="87" h="43"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</a:path>
            </a:pathLst>
          </a:custGeom>
          <a:solidFill>
            <a:srgbClr val="a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363760"/>
            <a:ext cx="66600" cy="33480"/>
          </a:xfrm>
          <a:custGeom>
            <a:avLst/>
            <a:gdLst/>
            <a:ahLst/>
            <a:rect l="l" t="t" r="r" b="b"/>
            <a:pathLst>
              <a:path w="83" h="41"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a5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91520" y="2363760"/>
            <a:ext cx="63360" cy="3168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b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2363760"/>
            <a:ext cx="60120" cy="30240"/>
          </a:xfrm>
          <a:custGeom>
            <a:avLst/>
            <a:gdLst/>
            <a:ahLst/>
            <a:rect l="l" t="t" r="r" b="b"/>
            <a:pathLst>
              <a:path w="75" h="37"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b1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2363760"/>
            <a:ext cx="56880" cy="284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91520" y="2363760"/>
            <a:ext cx="54000" cy="27000"/>
          </a:xfrm>
          <a:custGeom>
            <a:avLst/>
            <a:gdLst/>
            <a:ahLst/>
            <a:rect l="l" t="t" r="r" b="b"/>
            <a:pathLst>
              <a:path w="68" h="34"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bd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2363760"/>
            <a:ext cx="50760" cy="2556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c4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2363760"/>
            <a:ext cx="47520" cy="2376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363760"/>
            <a:ext cx="44280" cy="22320"/>
          </a:xfrm>
          <a:custGeom>
            <a:avLst/>
            <a:gdLst/>
            <a:ahLst/>
            <a:rect l="l" t="t" r="r" b="b"/>
            <a:pathLst>
              <a:path w="56" h="28"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d3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2363760"/>
            <a:ext cx="41040" cy="2052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2363760"/>
            <a:ext cx="38160" cy="1908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d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91520" y="2363760"/>
            <a:ext cx="34920" cy="1764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e4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91520" y="2363760"/>
            <a:ext cx="31680" cy="1584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e8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91520" y="2363760"/>
            <a:ext cx="28440" cy="1440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e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2363760"/>
            <a:ext cx="27000" cy="126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91520" y="2363760"/>
            <a:ext cx="23760" cy="11160"/>
          </a:xfrm>
          <a:custGeom>
            <a:avLst/>
            <a:gdLst/>
            <a:ahLst/>
            <a:rect l="l" t="t" r="r" b="b"/>
            <a:pathLst>
              <a:path w="29" h="15"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91520" y="2363760"/>
            <a:ext cx="20520" cy="972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6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2363760"/>
            <a:ext cx="17280" cy="972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f9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91520" y="2363760"/>
            <a:ext cx="14040" cy="792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b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91520" y="2363760"/>
            <a:ext cx="11160" cy="648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d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2363760"/>
            <a:ext cx="9360" cy="468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2363760"/>
            <a:ext cx="6120" cy="324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91520" y="2363760"/>
            <a:ext cx="28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23637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7884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5652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276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1044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8992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7884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5652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276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1044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8992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78840" y="263844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48480" y="249408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26160" y="249408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02400" y="249408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8188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45812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48480" y="263844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26160" y="263844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02400" y="263844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481880" y="263844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58120" y="263844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81720" y="2644920"/>
            <a:ext cx="180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5172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3120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0744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8512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6136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5172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3120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0744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81720" y="2498760"/>
            <a:ext cx="180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5976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3600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15120" y="2498760"/>
            <a:ext cx="180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9136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81720" y="2346480"/>
            <a:ext cx="180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59760" y="234648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36000" y="234648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91360" y="234648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05560" y="2425680"/>
            <a:ext cx="141480" cy="12600"/>
          </a:xfrm>
          <a:custGeom>
            <a:avLst/>
            <a:gdLst/>
            <a:ahLst/>
            <a:rect l="l" t="t" r="r" b="b"/>
            <a:pathLst>
              <a:path w="178" h="15">
                <a:moveTo>
                  <a:pt x="165" y="15"/>
                </a:moveTo>
                <a:lnTo>
                  <a:pt x="178" y="15"/>
                </a:lnTo>
                <a:lnTo>
                  <a:pt x="178" y="2"/>
                </a:lnTo>
                <a:lnTo>
                  <a:pt x="165" y="2"/>
                </a:lnTo>
                <a:lnTo>
                  <a:pt x="165" y="15"/>
                </a:lnTo>
                <a:close/>
                <a:moveTo>
                  <a:pt x="0" y="5"/>
                </a:moveTo>
                <a:lnTo>
                  <a:pt x="2" y="11"/>
                </a:lnTo>
                <a:lnTo>
                  <a:pt x="7" y="13"/>
                </a:lnTo>
                <a:lnTo>
                  <a:pt x="13" y="11"/>
                </a:lnTo>
                <a:lnTo>
                  <a:pt x="17" y="5"/>
                </a:lnTo>
                <a:lnTo>
                  <a:pt x="13" y="2"/>
                </a:lnTo>
                <a:lnTo>
                  <a:pt x="7" y="0"/>
                </a:lnTo>
                <a:lnTo>
                  <a:pt x="2" y="2"/>
                </a:lnTo>
                <a:lnTo>
                  <a:pt x="0" y="5"/>
                </a:lnTo>
                <a:close/>
                <a:moveTo>
                  <a:pt x="44" y="5"/>
                </a:moveTo>
                <a:lnTo>
                  <a:pt x="48" y="11"/>
                </a:lnTo>
                <a:lnTo>
                  <a:pt x="54" y="13"/>
                </a:lnTo>
                <a:lnTo>
                  <a:pt x="59" y="11"/>
                </a:lnTo>
                <a:lnTo>
                  <a:pt x="61" y="5"/>
                </a:lnTo>
                <a:lnTo>
                  <a:pt x="59" y="2"/>
                </a:lnTo>
                <a:lnTo>
                  <a:pt x="54" y="0"/>
                </a:lnTo>
                <a:lnTo>
                  <a:pt x="48" y="2"/>
                </a:lnTo>
                <a:lnTo>
                  <a:pt x="44" y="5"/>
                </a:lnTo>
                <a:close/>
                <a:moveTo>
                  <a:pt x="88" y="5"/>
                </a:moveTo>
                <a:lnTo>
                  <a:pt x="90" y="11"/>
                </a:lnTo>
                <a:lnTo>
                  <a:pt x="96" y="13"/>
                </a:lnTo>
                <a:lnTo>
                  <a:pt x="102" y="11"/>
                </a:lnTo>
                <a:lnTo>
                  <a:pt x="103" y="5"/>
                </a:lnTo>
                <a:lnTo>
                  <a:pt x="102" y="2"/>
                </a:lnTo>
                <a:lnTo>
                  <a:pt x="96" y="0"/>
                </a:lnTo>
                <a:lnTo>
                  <a:pt x="90" y="2"/>
                </a:lnTo>
                <a:lnTo>
                  <a:pt x="88" y="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35880" y="2427120"/>
            <a:ext cx="11160" cy="11160"/>
          </a:xfrm>
          <a:prstGeom prst="rect">
            <a:avLst/>
          </a:prstGeom>
          <a:noFill/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05560" y="24256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3"/>
                </a:moveTo>
                <a:lnTo>
                  <a:pt x="1" y="6"/>
                </a:lnTo>
                <a:lnTo>
                  <a:pt x="4" y="7"/>
                </a:lnTo>
                <a:lnTo>
                  <a:pt x="7" y="6"/>
                </a:lnTo>
                <a:lnTo>
                  <a:pt x="9" y="3"/>
                </a:lnTo>
                <a:lnTo>
                  <a:pt x="7" y="1"/>
                </a:lnTo>
                <a:lnTo>
                  <a:pt x="4" y="0"/>
                </a:lnTo>
                <a:lnTo>
                  <a:pt x="1" y="1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75400" y="242568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3"/>
                </a:moveTo>
                <a:lnTo>
                  <a:pt x="1" y="6"/>
                </a:lnTo>
                <a:lnTo>
                  <a:pt x="4" y="7"/>
                </a:lnTo>
                <a:lnTo>
                  <a:pt x="7" y="6"/>
                </a:lnTo>
                <a:lnTo>
                  <a:pt x="8" y="3"/>
                </a:lnTo>
                <a:lnTo>
                  <a:pt x="7" y="1"/>
                </a:lnTo>
                <a:lnTo>
                  <a:pt x="4" y="0"/>
                </a:lnTo>
                <a:lnTo>
                  <a:pt x="1" y="1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3733920"/>
            <a:ext cx="69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925560" y="3429000"/>
            <a:ext cx="2122560" cy="4129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2514600"/>
            <a:ext cx="124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H or SONET N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thernet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73720" y="3873600"/>
            <a:ext cx="124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H or SONET 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691160" y="4043520"/>
            <a:ext cx="685800" cy="444240"/>
            <a:chOff x="4691160" y="4043520"/>
            <a:chExt cx="685800" cy="444240"/>
          </a:xfrm>
        </p:grpSpPr>
        <p:sp>
          <p:nvSpPr>
            <p:cNvPr id="408" name=""/>
            <p:cNvSpPr/>
            <p:nvPr/>
          </p:nvSpPr>
          <p:spPr>
            <a:xfrm>
              <a:off x="5272200" y="4294080"/>
              <a:ext cx="612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4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72200" y="4222800"/>
              <a:ext cx="612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30760" y="4105440"/>
              <a:ext cx="498600" cy="382320"/>
            </a:xfrm>
            <a:custGeom>
              <a:avLst/>
              <a:gdLst/>
              <a:ahLst/>
              <a:rect l="l" t="t" r="r" b="b"/>
              <a:pathLst>
                <a:path w="628" h="483">
                  <a:moveTo>
                    <a:pt x="0" y="483"/>
                  </a:moveTo>
                  <a:lnTo>
                    <a:pt x="628" y="483"/>
                  </a:lnTo>
                  <a:lnTo>
                    <a:pt x="628" y="147"/>
                  </a:lnTo>
                  <a:lnTo>
                    <a:pt x="355" y="0"/>
                  </a:lnTo>
                  <a:lnTo>
                    <a:pt x="0" y="247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7f7f7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30760" y="4105440"/>
              <a:ext cx="498600" cy="382320"/>
            </a:xfrm>
            <a:custGeom>
              <a:avLst/>
              <a:gdLst/>
              <a:ahLst/>
              <a:rect l="l" t="t" r="r" b="b"/>
              <a:pathLst>
                <a:path w="628" h="483">
                  <a:moveTo>
                    <a:pt x="0" y="483"/>
                  </a:moveTo>
                  <a:lnTo>
                    <a:pt x="628" y="483"/>
                  </a:lnTo>
                  <a:lnTo>
                    <a:pt x="628" y="147"/>
                  </a:lnTo>
                  <a:lnTo>
                    <a:pt x="355" y="0"/>
                  </a:lnTo>
                  <a:lnTo>
                    <a:pt x="0" y="247"/>
                  </a:lnTo>
                  <a:lnTo>
                    <a:pt x="0" y="48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29360" y="4213080"/>
              <a:ext cx="87120" cy="274680"/>
            </a:xfrm>
            <a:custGeom>
              <a:avLst/>
              <a:gdLst/>
              <a:ahLst/>
              <a:rect l="l" t="t" r="r" b="b"/>
              <a:pathLst>
                <a:path w="109" h="345">
                  <a:moveTo>
                    <a:pt x="0" y="345"/>
                  </a:moveTo>
                  <a:lnTo>
                    <a:pt x="109" y="236"/>
                  </a:lnTo>
                  <a:lnTo>
                    <a:pt x="109" y="0"/>
                  </a:lnTo>
                  <a:lnTo>
                    <a:pt x="0" y="109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a5a5a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29360" y="4213080"/>
              <a:ext cx="87120" cy="274680"/>
            </a:xfrm>
            <a:custGeom>
              <a:avLst/>
              <a:gdLst/>
              <a:ahLst/>
              <a:rect l="l" t="t" r="r" b="b"/>
              <a:pathLst>
                <a:path w="109" h="345">
                  <a:moveTo>
                    <a:pt x="0" y="345"/>
                  </a:moveTo>
                  <a:lnTo>
                    <a:pt x="109" y="236"/>
                  </a:lnTo>
                  <a:lnTo>
                    <a:pt x="109" y="0"/>
                  </a:lnTo>
                  <a:lnTo>
                    <a:pt x="0" y="109"/>
                  </a:lnTo>
                  <a:lnTo>
                    <a:pt x="0" y="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67280" y="4043520"/>
              <a:ext cx="409680" cy="295200"/>
            </a:xfrm>
            <a:custGeom>
              <a:avLst/>
              <a:gdLst/>
              <a:ahLst/>
              <a:rect l="l" t="t" r="r" b="b"/>
              <a:pathLst>
                <a:path w="516" h="372">
                  <a:moveTo>
                    <a:pt x="0" y="117"/>
                  </a:moveTo>
                  <a:lnTo>
                    <a:pt x="399" y="372"/>
                  </a:lnTo>
                  <a:lnTo>
                    <a:pt x="516" y="254"/>
                  </a:lnTo>
                  <a:lnTo>
                    <a:pt x="117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d8d8d8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67280" y="4043520"/>
              <a:ext cx="409680" cy="295200"/>
            </a:xfrm>
            <a:custGeom>
              <a:avLst/>
              <a:gdLst/>
              <a:ahLst/>
              <a:rect l="l" t="t" r="r" b="b"/>
              <a:pathLst>
                <a:path w="516" h="372">
                  <a:moveTo>
                    <a:pt x="0" y="117"/>
                  </a:moveTo>
                  <a:lnTo>
                    <a:pt x="399" y="372"/>
                  </a:lnTo>
                  <a:lnTo>
                    <a:pt x="516" y="254"/>
                  </a:lnTo>
                  <a:lnTo>
                    <a:pt x="117" y="0"/>
                  </a:lnTo>
                  <a:lnTo>
                    <a:pt x="0" y="1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91160" y="4043520"/>
              <a:ext cx="368280" cy="295200"/>
            </a:xfrm>
            <a:custGeom>
              <a:avLst/>
              <a:gdLst/>
              <a:ahLst/>
              <a:rect l="l" t="t" r="r" b="b"/>
              <a:pathLst>
                <a:path w="465" h="372">
                  <a:moveTo>
                    <a:pt x="0" y="372"/>
                  </a:moveTo>
                  <a:lnTo>
                    <a:pt x="106" y="271"/>
                  </a:lnTo>
                  <a:lnTo>
                    <a:pt x="465" y="0"/>
                  </a:lnTo>
                  <a:lnTo>
                    <a:pt x="348" y="117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91160" y="4043520"/>
              <a:ext cx="368280" cy="295200"/>
            </a:xfrm>
            <a:custGeom>
              <a:avLst/>
              <a:gdLst/>
              <a:ahLst/>
              <a:rect l="l" t="t" r="r" b="b"/>
              <a:pathLst>
                <a:path w="465" h="372">
                  <a:moveTo>
                    <a:pt x="0" y="372"/>
                  </a:moveTo>
                  <a:lnTo>
                    <a:pt x="106" y="271"/>
                  </a:lnTo>
                  <a:lnTo>
                    <a:pt x="465" y="0"/>
                  </a:lnTo>
                  <a:lnTo>
                    <a:pt x="348" y="117"/>
                  </a:lnTo>
                  <a:lnTo>
                    <a:pt x="0" y="3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38560" y="4340160"/>
              <a:ext cx="79560" cy="146160"/>
            </a:xfrm>
            <a:prstGeom prst="rect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38560" y="4340160"/>
              <a:ext cx="79560" cy="146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91240" y="4338720"/>
              <a:ext cx="169560" cy="79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89440" y="4336920"/>
              <a:ext cx="173160" cy="82800"/>
            </a:xfrm>
            <a:custGeom>
              <a:avLst/>
              <a:gdLst/>
              <a:ahLst/>
              <a:rect l="l" t="t" r="r" b="b"/>
              <a:pathLst>
                <a:path w="219" h="103">
                  <a:moveTo>
                    <a:pt x="0" y="0"/>
                  </a:moveTo>
                  <a:lnTo>
                    <a:pt x="0" y="103"/>
                  </a:lnTo>
                  <a:lnTo>
                    <a:pt x="219" y="103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89440" y="4336920"/>
              <a:ext cx="173160" cy="82800"/>
            </a:xfrm>
            <a:custGeom>
              <a:avLst/>
              <a:gdLst/>
              <a:ahLst/>
              <a:rect l="l" t="t" r="r" b="b"/>
              <a:pathLst>
                <a:path w="219" h="103">
                  <a:moveTo>
                    <a:pt x="219" y="103"/>
                  </a:moveTo>
                  <a:lnTo>
                    <a:pt x="219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43600" y="4406760"/>
              <a:ext cx="14040" cy="158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9"/>
                  </a:moveTo>
                  <a:lnTo>
                    <a:pt x="17" y="17"/>
                  </a:lnTo>
                  <a:lnTo>
                    <a:pt x="9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4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43600" y="4406760"/>
              <a:ext cx="14040" cy="158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9"/>
                  </a:moveTo>
                  <a:lnTo>
                    <a:pt x="17" y="17"/>
                  </a:lnTo>
                  <a:lnTo>
                    <a:pt x="9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4"/>
                  </a:lnTo>
                  <a:lnTo>
                    <a:pt x="19" y="9"/>
                  </a:lnTo>
                </a:path>
              </a:pathLst>
            </a:custGeom>
            <a:noFill/>
            <a:ln w="468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676520" y="3505320"/>
            <a:ext cx="164880" cy="161640"/>
            <a:chOff x="1676520" y="3505320"/>
            <a:chExt cx="164880" cy="161640"/>
          </a:xfrm>
        </p:grpSpPr>
        <p:sp>
          <p:nvSpPr>
            <p:cNvPr id="426" name=""/>
            <p:cNvSpPr/>
            <p:nvPr/>
          </p:nvSpPr>
          <p:spPr>
            <a:xfrm>
              <a:off x="1676520" y="3505320"/>
              <a:ext cx="164880" cy="16164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6520" y="3505320"/>
              <a:ext cx="164880" cy="16164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704960" y="3535560"/>
              <a:ext cx="100800" cy="101520"/>
              <a:chOff x="1704960" y="3535560"/>
              <a:chExt cx="100800" cy="101520"/>
            </a:xfrm>
          </p:grpSpPr>
          <p:sp>
            <p:nvSpPr>
              <p:cNvPr id="429" name=""/>
              <p:cNvSpPr/>
              <p:nvPr/>
            </p:nvSpPr>
            <p:spPr>
              <a:xfrm>
                <a:off x="1704960" y="3535560"/>
                <a:ext cx="100800" cy="101520"/>
              </a:xfrm>
              <a:custGeom>
                <a:avLst/>
                <a:gdLst/>
                <a:ahLst/>
                <a:rect l="l" t="t" r="r" b="b"/>
                <a:pathLst>
                  <a:path w="213" h="214">
                    <a:moveTo>
                      <a:pt x="10" y="214"/>
                    </a:moveTo>
                    <a:lnTo>
                      <a:pt x="169" y="56"/>
                    </a:lnTo>
                    <a:lnTo>
                      <a:pt x="184" y="73"/>
                    </a:lnTo>
                    <a:lnTo>
                      <a:pt x="213" y="0"/>
                    </a:lnTo>
                    <a:lnTo>
                      <a:pt x="142" y="32"/>
                    </a:lnTo>
                    <a:lnTo>
                      <a:pt x="156" y="47"/>
                    </a:lnTo>
                    <a:lnTo>
                      <a:pt x="0" y="201"/>
                    </a:lnTo>
                    <a:lnTo>
                      <a:pt x="1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04960" y="3535560"/>
                <a:ext cx="100800" cy="101520"/>
              </a:xfrm>
              <a:custGeom>
                <a:avLst/>
                <a:gdLst/>
                <a:ahLst/>
                <a:rect l="l" t="t" r="r" b="b"/>
                <a:pathLst>
                  <a:path w="213" h="214">
                    <a:moveTo>
                      <a:pt x="10" y="214"/>
                    </a:moveTo>
                    <a:lnTo>
                      <a:pt x="169" y="56"/>
                    </a:lnTo>
                    <a:lnTo>
                      <a:pt x="184" y="73"/>
                    </a:lnTo>
                    <a:lnTo>
                      <a:pt x="213" y="0"/>
                    </a:lnTo>
                    <a:lnTo>
                      <a:pt x="142" y="32"/>
                    </a:lnTo>
                    <a:lnTo>
                      <a:pt x="156" y="47"/>
                    </a:lnTo>
                    <a:lnTo>
                      <a:pt x="0" y="201"/>
                    </a:lnTo>
                    <a:lnTo>
                      <a:pt x="10" y="21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7648560" y="2610000"/>
            <a:ext cx="31428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812000" y="2898720"/>
            <a:ext cx="615960" cy="345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648560" y="2610000"/>
            <a:ext cx="4953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8031240" y="2565360"/>
            <a:ext cx="615960" cy="345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905120" y="6004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elis’ MetaLIGHT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7162920" y="2119320"/>
            <a:ext cx="598320" cy="6238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228600" y="312408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4800600" y="2895480"/>
            <a:ext cx="598320" cy="623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57200" y="5715000"/>
            <a:ext cx="129528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5562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isting Copper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9">
            <a:lum contrast="60000"/>
          </a:blip>
          <a:stretch/>
        </p:blipFill>
        <p:spPr>
          <a:xfrm>
            <a:off x="6934320" y="487692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0">
            <a:lum contrast="60000"/>
          </a:blip>
          <a:stretch/>
        </p:blipFill>
        <p:spPr>
          <a:xfrm>
            <a:off x="5105520" y="434340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1">
            <a:lum contrast="70000"/>
          </a:blip>
          <a:stretch/>
        </p:blipFill>
        <p:spPr>
          <a:xfrm>
            <a:off x="609480" y="2438280"/>
            <a:ext cx="847800" cy="3254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2">
            <a:lum contrast="70000"/>
          </a:blip>
          <a:stretch/>
        </p:blipFill>
        <p:spPr>
          <a:xfrm>
            <a:off x="1905120" y="304812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3">
            <a:lum contrast="54000"/>
          </a:blip>
          <a:stretch/>
        </p:blipFill>
        <p:spPr>
          <a:xfrm>
            <a:off x="762120" y="594360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4">
            <a:lum contrast="60000"/>
          </a:blip>
          <a:stretch/>
        </p:blipFill>
        <p:spPr>
          <a:xfrm>
            <a:off x="6553080" y="2514600"/>
            <a:ext cx="847800" cy="325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5">
            <a:lum contrast="60000"/>
          </a:blip>
          <a:stretch/>
        </p:blipFill>
        <p:spPr>
          <a:xfrm>
            <a:off x="5105520" y="3124080"/>
            <a:ext cx="847440" cy="325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588720" y="4343400"/>
            <a:ext cx="1445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Cellular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tation Backha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924680" y="4419720"/>
            <a:ext cx="762120" cy="1536480"/>
            <a:chOff x="7924680" y="4419720"/>
            <a:chExt cx="762120" cy="1536480"/>
          </a:xfrm>
        </p:grpSpPr>
        <p:sp>
          <p:nvSpPr>
            <p:cNvPr id="450" name=""/>
            <p:cNvSpPr/>
            <p:nvPr/>
          </p:nvSpPr>
          <p:spPr>
            <a:xfrm>
              <a:off x="8015400" y="5257800"/>
              <a:ext cx="168840" cy="18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1" name=""/>
            <p:cNvGraphicFramePr/>
            <p:nvPr/>
          </p:nvGraphicFramePr>
          <p:xfrm>
            <a:off x="7924680" y="4419720"/>
            <a:ext cx="762120" cy="1536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24680" y="4419720"/>
                      <a:ext cx="762120" cy="15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3" name=""/>
          <p:cNvGrpSpPr/>
          <p:nvPr/>
        </p:nvGrpSpPr>
        <p:grpSpPr>
          <a:xfrm>
            <a:off x="8285760" y="4456800"/>
            <a:ext cx="577080" cy="775800"/>
            <a:chOff x="8285760" y="4456800"/>
            <a:chExt cx="577080" cy="775800"/>
          </a:xfrm>
        </p:grpSpPr>
        <p:sp>
          <p:nvSpPr>
            <p:cNvPr id="454" name=""/>
            <p:cNvSpPr/>
            <p:nvPr/>
          </p:nvSpPr>
          <p:spPr>
            <a:xfrm flipH="1">
              <a:off x="8376120" y="4456800"/>
              <a:ext cx="486360" cy="7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26" y="20168"/>
                  </a:moveTo>
                  <a:arcTo wR="10800" hR="10800" stAng="7190598" swAng="745209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26" y="20168"/>
                  </a:moveTo>
                  <a:arcTo wR="10800" hR="10800" stAng="7190598" swAng="7452092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358480" y="4492800"/>
              <a:ext cx="425160" cy="7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88" y="20203"/>
                  </a:moveTo>
                  <a:arcTo wR="10800" hR="10800" stAng="7167652" swAng="75054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488" y="20203"/>
                  </a:moveTo>
                  <a:arcTo wR="10800" hR="10800" stAng="7167652" swAng="7505495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8333640" y="4525920"/>
              <a:ext cx="376920" cy="63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26" y="20168"/>
                  </a:moveTo>
                  <a:arcTo wR="10800" hR="10800" stAng="7190598" swAng="745209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26" y="20168"/>
                  </a:moveTo>
                  <a:arcTo wR="10800" hR="10800" stAng="7190598" swAng="7452092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285400" y="4566240"/>
              <a:ext cx="345960" cy="55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88" y="20203"/>
                  </a:moveTo>
                  <a:arcTo wR="10800" hR="10800" stAng="7167652" swAng="75054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488" y="20203"/>
                  </a:moveTo>
                  <a:arcTo wR="10800" hR="10800" stAng="7167652" swAng="7505495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18"/>
          <a:stretch/>
        </p:blipFill>
        <p:spPr>
          <a:xfrm>
            <a:off x="2743200" y="3048120"/>
            <a:ext cx="598320" cy="6238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533160" y="1219320"/>
            <a:ext cx="83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6840" y="4495680"/>
            <a:ext cx="114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5029200"/>
            <a:ext cx="196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1 &amp; E3 over Ethernet Tunn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0:33:00Z</dcterms:created>
  <dc:creator/>
  <dc:description/>
  <dc:language>en-US</dc:language>
  <cp:lastModifiedBy>Markus Martinides</cp:lastModifiedBy>
  <dcterms:modified xsi:type="dcterms:W3CDTF">2009-05-22T08:56:44Z</dcterms:modified>
  <cp:revision>191</cp:revision>
  <dc:subject>EFM Bonding Advantage</dc:subject>
  <dc:title>SUA Telenet GmbH - Actelis Short Overview</dc:title>
</cp:coreProperties>
</file>